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36C9-397D-47A1-831E-6E4520C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9ECB-705F-4D23-9B20-37259A6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9329-5F34-4E71-B350-8A9612EB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50F3-7BC3-4D19-93C0-B05CA3C4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7C7D-7EF1-4535-A8F2-49A31188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A607-C338-48A3-A51C-AC395EC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DDE-6535-4A96-9B28-DFAA173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C474-8776-463E-AE1C-D068523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5225-4EEC-4BD1-A74A-68B043DD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14FE-618E-4627-B5BD-5C4807E4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6028-A54D-4312-8499-8C0B8A5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B7E0-7CDD-484D-A687-4FC7C99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75ED-24ED-4556-ADCC-77508EF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0790-C24B-4F79-976A-E2E3809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FCB-D045-443C-987C-5B2A93F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6199-DC34-402A-9D7A-D4E939B7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B5C0-76F2-40F8-BA41-AFC9FB8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4060-DA34-4A57-87A4-458D20C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E091-9BA9-4DFA-905B-9D79079F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A10D-5378-477F-9F8E-48BB9AE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E780-0DBA-4EFA-ADF3-2959235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C21E-7EA5-4F03-8D61-6324FE5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2305-A4B7-41A6-990F-5F2B946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D335-D464-43D0-9977-B2429F8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778-3155-45B8-8764-51C6091812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45F-5C73-48E3-ACF8-8FB4DEA5ED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50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5E HAS BEEN LEARNING ABOUT POLICE By Camer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273528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15750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27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What police dogs can do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police dogs can jump super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also have a hard b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have to be trained to f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1785960" cy="250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2035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ictures of t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81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Weap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se are police weapons a baton, hand cuffs, Swiss army knife, pepper spray, tas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644920" cy="278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492360" y="3573360"/>
            <a:ext cx="2664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Roles of police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ffic offic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spatch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og Handl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Crime sce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’s also a s.w.a.t te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737080" cy="2201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ictures of pol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end 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303280" cy="3217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1822320" cy="3087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5290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4:41Z</dcterms:created>
  <dc:creator>5e10</dc:creator>
  <dc:description/>
  <dc:language>en-US</dc:language>
  <cp:lastModifiedBy>5e10</cp:lastModifiedBy>
  <dcterms:modified xsi:type="dcterms:W3CDTF">2011-09-06T23:45:57Z</dcterms:modified>
  <cp:revision>5</cp:revision>
  <dc:subject/>
  <dc:title>POLICE</dc:title>
</cp:coreProperties>
</file>